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332-8CFA-4720-B134-7DC34A86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D90-1A57-4A91-833C-CFE7FAC1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377-0985-4029-8A68-2A742CAE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5DD-B933-4990-9BA1-918419AF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FDA-A01C-4244-AEEF-C4CE645D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74F-49AA-4A07-8253-4D366834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A5A-E1C4-41EF-8556-71F20D9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EA4-5631-4DBB-8E8C-E6ED1ECA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C32-49DD-4884-8F3A-AD8FAA43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2F7-B672-481B-8D1F-E737B56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65A-0593-411A-827F-78A6314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B41-7EFF-4529-B348-849009A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2BFF-F8A2-4A29-952E-5CEF5BA61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ee Th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oting free throws without bouncing the ball and bouncing th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’m going to get some people to shoot free throws and I’m going to let them bounce the balls and not be able to bounce the b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when they can bounce the ball they will mak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y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028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a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if the gym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seven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hem shoot free throws with bouncing and without bou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he shots they made with bouncing and wit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couldn’t bounce it they made more than when they could bounce it. With bouncing it, it was 9 and without it was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47760" y="4781520"/>
            <a:ext cx="195264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8985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rediction was incorrect. They made more free throws when they couldn’t bounce the balls. I thought that was surprising, because when you watch T.V. you always see them bouncing the ball to warm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4724280"/>
            <a:ext cx="122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7:06:12Z</dcterms:created>
  <dc:creator>USD376</dc:creator>
  <dc:description/>
  <dc:language>en-US</dc:language>
  <cp:lastModifiedBy>USD376</cp:lastModifiedBy>
  <dcterms:modified xsi:type="dcterms:W3CDTF">2011-02-16T16:45:45Z</dcterms:modified>
  <cp:revision>3</cp:revision>
  <dc:subject/>
  <dc:title>Free Throws</dc:title>
</cp:coreProperties>
</file>